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ED4-40DB-47EA-A42E-81BBA916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520-9726-40C7-99E3-87293A53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82D-9A09-4CCF-AD30-1A37F7EC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87D-B974-4B3A-8D40-C782C2A5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F9B2-B7A0-48A8-9C3A-B1FD419F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281-C394-4207-9C6F-BFB38AB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CFF-3BE2-46EF-8834-DD94528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B05A-C25D-454C-9352-F477C48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835-1E05-4F9C-9A65-9D556EF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EDE8-7166-4258-90E3-86FA1C55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B600-AD63-413A-A2A3-AE52DEF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E32-EE82-491F-A8CB-4B468565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ED41-1C67-4D7E-B419-C335313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E360-9B9B-4429-A12F-D7446A4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358C-11BE-48F8-A7B7-7A8FB7B7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45D8-001A-47A4-BB1D-7087522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7FAD-8454-4C0C-B3CF-B4261386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D5E-41B2-41F4-A232-525C9E1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14C-87E1-479D-8432-8C6E781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330-125D-4E1A-A0BC-D3064C1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1C0-9B88-4D14-955E-698FDA7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CEB-291D-4869-9402-53477A7A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B26-FA47-4A48-8D25-CAEB373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65A-5DD7-4A77-98F2-CBF2950F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F499-F6CB-4051-9AEC-EB53709621D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C27-1906-4BB1-95FB-D99B5F9456D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可编程控制器在三相异步电动机控制电路中的运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系统的开发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610920"/>
            <a:ext cx="60696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的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667640" cy="476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27160" y="6377760"/>
            <a:ext cx="35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8880" y="1557360"/>
            <a:ext cx="51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-15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参考梯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4107"/>
          <a:stretch/>
        </p:blipFill>
        <p:spPr>
          <a:xfrm>
            <a:off x="1042920" y="2133720"/>
            <a:ext cx="3673440" cy="364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6159" r="0" b="0"/>
          <a:stretch/>
        </p:blipFill>
        <p:spPr>
          <a:xfrm>
            <a:off x="4932360" y="2276640"/>
            <a:ext cx="369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2600" y="236700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，要求起动时，每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0m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依次起动一台，每台运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后自动停机。在运行中可用停止按钮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同时停机。试设计控制程序梯形图、写出语句表，并加注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自动交替闪亮控制。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交替闪亮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，时序波形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。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画出电路接线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l=t2=2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计控制程序梯形图、写出语句表，并加注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l=t2=0.5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能否简化梯形图程序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51120" y="4548240"/>
          <a:ext cx="3600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1120" y="4548240"/>
                    <a:ext cx="3600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719440" y="6399720"/>
            <a:ext cx="35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示灯交替闪亮控制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403920"/>
            <a:ext cx="245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1763" t="0" r="0" b="0"/>
          <a:stretch/>
        </p:blipFill>
        <p:spPr>
          <a:xfrm>
            <a:off x="709560" y="1628640"/>
            <a:ext cx="319716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661000"/>
            <a:ext cx="1728720" cy="720720"/>
          </a:xfrm>
          <a:prstGeom prst="wedgeRoundRectCallout">
            <a:avLst>
              <a:gd name="adj1" fmla="val 2249"/>
              <a:gd name="adj2" fmla="val -12599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7360"/>
            <a:ext cx="1058760" cy="1700280"/>
          </a:xfrm>
          <a:prstGeom prst="wedgeRoundRectCallout">
            <a:avLst>
              <a:gd name="adj1" fmla="val 89879"/>
              <a:gd name="adj2" fmla="val -2357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916280"/>
            <a:ext cx="1419120" cy="969840"/>
          </a:xfrm>
          <a:prstGeom prst="wedgeRoundRectCallout">
            <a:avLst>
              <a:gd name="adj1" fmla="val 82884"/>
              <a:gd name="adj2" fmla="val 1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003640" y="0"/>
            <a:ext cx="4140360" cy="34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44865" b="15267"/>
          <a:stretch/>
        </p:blipFill>
        <p:spPr>
          <a:xfrm>
            <a:off x="5219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9440" y="403920"/>
            <a:ext cx="33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转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反转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1728720" cy="720720"/>
          </a:xfrm>
          <a:prstGeom prst="wedgeRoundRectCallout">
            <a:avLst>
              <a:gd name="adj1" fmla="val 8953"/>
              <a:gd name="adj2" fmla="val -12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797360"/>
            <a:ext cx="914400" cy="1700280"/>
          </a:xfrm>
          <a:prstGeom prst="wedgeRoundRectCallout">
            <a:avLst>
              <a:gd name="adj1" fmla="val 84027"/>
              <a:gd name="adj2" fmla="val -3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349360"/>
            <a:ext cx="842760" cy="1511280"/>
          </a:xfrm>
          <a:prstGeom prst="wedgeRoundRectCallout">
            <a:avLst>
              <a:gd name="adj1" fmla="val 73541"/>
              <a:gd name="adj2" fmla="val -2069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" y="1557360"/>
            <a:ext cx="280044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6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4322880"/>
            <a:ext cx="3095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3103560"/>
            <a:ext cx="41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104" r="24037" b="4956"/>
          <a:stretch/>
        </p:blipFill>
        <p:spPr>
          <a:xfrm>
            <a:off x="755640" y="1557360"/>
            <a:ext cx="3533760" cy="468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2160" y="40392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顺序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052640"/>
            <a:ext cx="1368360" cy="1055520"/>
          </a:xfrm>
          <a:prstGeom prst="wedgeRoundRectCallout">
            <a:avLst>
              <a:gd name="adj1" fmla="val 69259"/>
              <a:gd name="adj2" fmla="val 262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35560"/>
            <a:ext cx="3024000" cy="503280"/>
          </a:xfrm>
          <a:prstGeom prst="wedgeRoundRectCallout">
            <a:avLst>
              <a:gd name="adj1" fmla="val -16037"/>
              <a:gd name="adj2" fmla="val -8059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205000"/>
            <a:ext cx="1800360" cy="719280"/>
          </a:xfrm>
          <a:prstGeom prst="wedgeRoundRectCallout">
            <a:avLst>
              <a:gd name="adj1" fmla="val -8643"/>
              <a:gd name="adj2" fmla="val 9635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59085" t="0" r="0" b="0"/>
          <a:stretch/>
        </p:blipFill>
        <p:spPr>
          <a:xfrm>
            <a:off x="5821200" y="0"/>
            <a:ext cx="3322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62120" cy="39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959280" cy="356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900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240" y="403920"/>
            <a:ext cx="34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△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936720" cy="1728720"/>
          </a:xfrm>
          <a:prstGeom prst="wedgeRoundRectCallout">
            <a:avLst>
              <a:gd name="adj1" fmla="val 77120"/>
              <a:gd name="adj2" fmla="val -1896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950080"/>
            <a:ext cx="3024360" cy="503280"/>
          </a:xfrm>
          <a:prstGeom prst="wedgeRoundRectCallout">
            <a:avLst>
              <a:gd name="adj1" fmla="val -8898"/>
              <a:gd name="adj2" fmla="val -12413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573360"/>
            <a:ext cx="1152360" cy="1008000"/>
          </a:xfrm>
          <a:prstGeom prst="wedgeRoundRectCallout">
            <a:avLst>
              <a:gd name="adj1" fmla="val 69148"/>
              <a:gd name="adj2" fmla="val -5440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57605" t="0" r="0" b="0"/>
          <a:stretch/>
        </p:blipFill>
        <p:spPr>
          <a:xfrm>
            <a:off x="5435640" y="3246480"/>
            <a:ext cx="3708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897440" cy="48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2059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661000"/>
            <a:ext cx="1943280" cy="863640"/>
          </a:xfrm>
          <a:prstGeom prst="wedgeRoundRectCallout">
            <a:avLst>
              <a:gd name="adj1" fmla="val -82189"/>
              <a:gd name="adj2" fmla="val -3547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1727280" cy="792000"/>
          </a:xfrm>
          <a:prstGeom prst="wedgeRoundRectCallout">
            <a:avLst>
              <a:gd name="adj1" fmla="val 12592"/>
              <a:gd name="adj2" fmla="val -9629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波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43280" y="1660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波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5320" y="2927520"/>
            <a:ext cx="5256360" cy="357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1120" y="162864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87120" y="17733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皮带输送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495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各种基本逻辑指令的实际应用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编程元件定时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辅助继电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线，理解多个输出公共端子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162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皮带运输机工作原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70280"/>
          <a:ext cx="40338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70280"/>
                    <a:ext cx="40338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530000" y="52282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69000" y="2292480"/>
          <a:ext cx="4140000" cy="26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92480"/>
                    <a:ext cx="4140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581080" y="52138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时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6:09:15Z</dcterms:modified>
  <cp:revision>49</cp:revision>
  <dc:subject/>
  <dc:title>模块二  S7-200系列PLC的基本结构 </dc:title>
</cp:coreProperties>
</file>